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nl-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nl-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Managing Referen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nl-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46F219-17EF-4934-9C80-CB97D44769D4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jdelijke aanduiding voor voettekst 5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  <a:ea typeface="Arial"/>
              </a:rPr>
              <a:t>Managing Referen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dianummer 6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3F60D5-2E09-4FCE-9856-4AD1F37A7420}" type="slidenum">
              <a:rPr b="0" lang="nl-NL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5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  <a:ea typeface="Arial"/>
              </a:rPr>
              <a:t>Managing Referen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jdelijke aanduiding voor dianummer 6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CDF40F-3111-407B-9BE7-D826B32451CB}" type="slidenum">
              <a:rPr b="0" lang="nl-NL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DDB-AC7E-406B-B145-94CC9B46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F0A-52BA-43D7-915B-25FEEAE3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25A-6CF9-477B-A729-95090D13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25D-0E7C-46BC-BC6E-C7228122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C55-C48E-430F-AF77-98EBB653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107-B4AD-43D8-8669-03C6EFD2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531-6794-4833-A86B-2B91944F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814-B2BD-4A4E-BE3F-18B25F66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2F7-2EBF-452F-AC5F-2072C859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ABC-77A7-41DF-9C2D-A2A88922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28D-58AC-47E2-A6A4-172137FE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A71-5871-47A7-85D5-7CD9AE46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46B3-976A-49E9-9633-B0D51A94D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26828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ence Management Software Tool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otero – Download Instructio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2521080" y="3068640"/>
            <a:ext cx="4246560" cy="1800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238720" y="6172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work is licensed under a </a:t>
            </a:r>
            <a:r>
              <a:rPr b="0" lang="en-US" sz="1200" spc="-1" strike="noStrike" u="sng">
                <a:solidFill>
                  <a:srgbClr val="2e74b5"/>
                </a:solidFill>
                <a:uFillTx/>
                <a:latin typeface="Arial"/>
                <a:ea typeface="Times New Roman"/>
              </a:rPr>
              <a:t>Creative Commons Attribution 4.0 International Lic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6438960" y="5578560"/>
            <a:ext cx="127476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cessor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552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tero's Word and OpenOffice plugins allow users to insert citations directly from their word processing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find a link to install the plugin on the Zotero homepage (www.zotero.or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installing the plugin and clicking on Zotero, you should see this row of icons in your Microsoft Word toolb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ix buttons allow you to manage references and bibliographies in your Microsoft Word docu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826920" y="3862440"/>
            <a:ext cx="55454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3" name="Tekstvak 2"/>
          <p:cNvSpPr/>
          <p:nvPr/>
        </p:nvSpPr>
        <p:spPr>
          <a:xfrm>
            <a:off x="4067280" y="549360"/>
            <a:ext cx="2665440" cy="642600"/>
          </a:xfrm>
          <a:prstGeom prst="rect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Add a plugin for Word or LibreOffic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hthoek 3"/>
          <p:cNvSpPr/>
          <p:nvPr/>
        </p:nvSpPr>
        <p:spPr>
          <a:xfrm>
            <a:off x="1332000" y="3432240"/>
            <a:ext cx="2519280" cy="357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hthoek 5"/>
          <p:cNvSpPr/>
          <p:nvPr/>
        </p:nvSpPr>
        <p:spPr>
          <a:xfrm>
            <a:off x="1116000" y="6308640"/>
            <a:ext cx="36687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kstvak 2"/>
          <p:cNvSpPr/>
          <p:nvPr/>
        </p:nvSpPr>
        <p:spPr>
          <a:xfrm>
            <a:off x="3203640" y="1770120"/>
            <a:ext cx="3384360" cy="916920"/>
          </a:xfrm>
          <a:prstGeom prst="rect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rom this page, download and install the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Word for Windows Plugin (Firefox extensio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hthoek 3"/>
          <p:cNvSpPr/>
          <p:nvPr/>
        </p:nvSpPr>
        <p:spPr>
          <a:xfrm>
            <a:off x="5435640" y="4941720"/>
            <a:ext cx="93672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kstvak 2"/>
          <p:cNvSpPr/>
          <p:nvPr/>
        </p:nvSpPr>
        <p:spPr>
          <a:xfrm>
            <a:off x="2484360" y="3645000"/>
            <a:ext cx="2592360" cy="1191240"/>
          </a:xfrm>
          <a:prstGeom prst="rect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Firefox, this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Software Installatio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uery may appear.  If so, click on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Install No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126360" cy="68230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3"/>
          <p:cNvSpPr/>
          <p:nvPr/>
        </p:nvSpPr>
        <p:spPr>
          <a:xfrm>
            <a:off x="6948360" y="260280"/>
            <a:ext cx="71928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Rechte verbindingslijn met pijl 6"/>
          <p:cNvCxnSpPr>
            <a:endCxn id="92" idx="2"/>
          </p:cNvCxnSpPr>
          <p:nvPr/>
        </p:nvCxnSpPr>
        <p:spPr>
          <a:xfrm flipV="1">
            <a:off x="5441760" y="691920"/>
            <a:ext cx="1865880" cy="2566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Tekstvak 2"/>
          <p:cNvSpPr/>
          <p:nvPr/>
        </p:nvSpPr>
        <p:spPr>
          <a:xfrm>
            <a:off x="4336920" y="2967120"/>
            <a:ext cx="3330720" cy="916920"/>
          </a:xfrm>
          <a:prstGeom prst="rect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MS Wor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ZOTERO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toolbar. This will display the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Zotero Plugi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hthoek 3"/>
          <p:cNvSpPr/>
          <p:nvPr/>
        </p:nvSpPr>
        <p:spPr>
          <a:xfrm>
            <a:off x="22320" y="561960"/>
            <a:ext cx="3541680" cy="981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is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539360"/>
            <a:ext cx="8640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nl-NL" sz="2600" spc="-1" strike="noStrike">
                <a:solidFill>
                  <a:srgbClr val="cc0066"/>
                </a:solidFill>
                <a:latin typeface="Arial"/>
              </a:rPr>
              <a:t>Add a plugin for Word or LibreOff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ext, click on</a:t>
            </a:r>
            <a:r>
              <a:rPr b="0" lang="nl-NL" sz="2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cc0066"/>
                </a:solidFill>
                <a:latin typeface="Arial"/>
              </a:rPr>
              <a:t>Word for Windows Plugin (Firefox extension)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nd subsequently </a:t>
            </a:r>
            <a:r>
              <a:rPr b="0" lang="nl-NL" sz="2600" spc="-1" strike="noStrike">
                <a:solidFill>
                  <a:srgbClr val="cc0066"/>
                </a:solidFill>
                <a:latin typeface="Arial"/>
              </a:rPr>
              <a:t>Install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nl-NL" sz="2600" spc="-1" strike="noStrike">
                <a:solidFill>
                  <a:srgbClr val="cc0066"/>
                </a:solidFill>
                <a:latin typeface="Arial"/>
              </a:rPr>
              <a:t>MS Word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nl-NL" sz="2600" spc="-1" strike="noStrike">
                <a:solidFill>
                  <a:srgbClr val="cc0066"/>
                </a:solidFill>
                <a:latin typeface="Arial"/>
              </a:rPr>
              <a:t> LibreOffic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nl-NL" sz="2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nl-NL" sz="2600" spc="-1" strike="noStrike">
                <a:solidFill>
                  <a:srgbClr val="cc0066"/>
                </a:solidFill>
                <a:latin typeface="Arial"/>
              </a:rPr>
              <a:t>ADD-INS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the toolb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195384"/>
          <p:cNvPicPr/>
          <p:nvPr/>
        </p:nvPicPr>
        <p:blipFill>
          <a:blip r:embed="rId1"/>
          <a:stretch/>
        </p:blipFill>
        <p:spPr>
          <a:xfrm>
            <a:off x="6948360" y="146160"/>
            <a:ext cx="1241640" cy="126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j0292020"/>
          <p:cNvPicPr/>
          <p:nvPr/>
        </p:nvPicPr>
        <p:blipFill>
          <a:blip r:embed="rId2"/>
          <a:stretch/>
        </p:blipFill>
        <p:spPr>
          <a:xfrm>
            <a:off x="1116000" y="141120"/>
            <a:ext cx="1440000" cy="136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6012000" y="3573360"/>
            <a:ext cx="509400" cy="371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7451640" y="575316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t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280" y="14130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tero is a free (open source) reference management tool, that is available as an add-on for the Firefox web brows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ndalone version for Chrome, Safari and Firefox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e Firefox web browser can be downloaded for free at: http://www.mozilla.com/en-US/firefo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you need version 17 or newer;  current version is 29 (May 201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 download and install Zotero go to: http://www.zotero.o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360072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3"/>
          <p:cNvSpPr/>
          <p:nvPr/>
        </p:nvSpPr>
        <p:spPr>
          <a:xfrm>
            <a:off x="4716360" y="366840"/>
            <a:ext cx="4410000" cy="1465560"/>
          </a:xfrm>
          <a:prstGeom prst="rect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fore you can install Zotero, you first need to install the Firefox web brow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irefox can be downloaded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www.mozilla.com/en-US/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Rechte verbindingslijn met pijl 5"/>
          <p:cNvCxnSpPr/>
          <p:nvPr/>
        </p:nvCxnSpPr>
        <p:spPr>
          <a:xfrm flipH="1">
            <a:off x="5363640" y="1844280"/>
            <a:ext cx="2666160" cy="1297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kstvak 2"/>
          <p:cNvSpPr/>
          <p:nvPr/>
        </p:nvSpPr>
        <p:spPr>
          <a:xfrm>
            <a:off x="324000" y="1844640"/>
            <a:ext cx="4103640" cy="228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ext, go to the Zotero website at http://www.zotero.org and click on the red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Download No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te: since both Firefox and Zotero are open source programs and linked to each others’ programming, it is best to download Zotero from Firef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hoek 3"/>
          <p:cNvSpPr/>
          <p:nvPr/>
        </p:nvSpPr>
        <p:spPr>
          <a:xfrm>
            <a:off x="5940360" y="1989000"/>
            <a:ext cx="2808360" cy="1008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kstvak 2"/>
          <p:cNvSpPr/>
          <p:nvPr/>
        </p:nvSpPr>
        <p:spPr>
          <a:xfrm>
            <a:off x="1332000" y="4653000"/>
            <a:ext cx="6192720" cy="2014200"/>
          </a:xfrm>
          <a:prstGeom prst="rect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te that there are Download options: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Zotero/Firefox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Zotero Standalon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sion for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 Firefox, Chrom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 Safar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or this module, download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Zotero 4.0 for Firefox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cloud based version)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hen the download is complete, a box will appear.  Click on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Install no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ter in the tutorial, we will download the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Standalon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Windows) ver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hthoek 3"/>
          <p:cNvSpPr/>
          <p:nvPr/>
        </p:nvSpPr>
        <p:spPr>
          <a:xfrm>
            <a:off x="900000" y="3141720"/>
            <a:ext cx="2951280" cy="766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kstvak 2"/>
          <p:cNvSpPr/>
          <p:nvPr/>
        </p:nvSpPr>
        <p:spPr>
          <a:xfrm>
            <a:off x="3348000" y="4362480"/>
            <a:ext cx="3164040" cy="916920"/>
          </a:xfrm>
          <a:prstGeom prst="rect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Firefox, this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Software Installatio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uery may appear.  If so, click on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Instal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3"/>
          <p:cNvSpPr/>
          <p:nvPr/>
        </p:nvSpPr>
        <p:spPr>
          <a:xfrm>
            <a:off x="6372360" y="5661000"/>
            <a:ext cx="72072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856200" cy="4816440"/>
          </a:xfrm>
          <a:prstGeom prst="rect">
            <a:avLst/>
          </a:prstGeom>
          <a:ln w="0">
            <a:noFill/>
          </a:ln>
        </p:spPr>
      </p:pic>
      <p:sp>
        <p:nvSpPr>
          <p:cNvPr id="68" name="Tekstvak 2"/>
          <p:cNvSpPr/>
          <p:nvPr/>
        </p:nvSpPr>
        <p:spPr>
          <a:xfrm>
            <a:off x="4859280" y="476280"/>
            <a:ext cx="2737080" cy="642600"/>
          </a:xfrm>
          <a:prstGeom prst="rect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Restart No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button to install Zot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hthoek 3"/>
          <p:cNvSpPr/>
          <p:nvPr/>
        </p:nvSpPr>
        <p:spPr>
          <a:xfrm>
            <a:off x="4427640" y="3213000"/>
            <a:ext cx="1655640" cy="64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kstvak 2"/>
          <p:cNvSpPr/>
          <p:nvPr/>
        </p:nvSpPr>
        <p:spPr>
          <a:xfrm>
            <a:off x="3203640" y="3933720"/>
            <a:ext cx="3600360" cy="1465560"/>
          </a:xfrm>
          <a:prstGeom prst="rect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Zotero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s been loaded and is accessible by clicking on the </a:t>
            </a:r>
            <a:r>
              <a:rPr b="0" lang="nl-NL" sz="1800" spc="-1" strike="noStrike">
                <a:solidFill>
                  <a:srgbClr val="cc0066"/>
                </a:solidFill>
                <a:latin typeface="Arial"/>
              </a:rPr>
              <a:t>Z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Firebox toolb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istering for Zotero is opt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hthoek 3"/>
          <p:cNvSpPr/>
          <p:nvPr/>
        </p:nvSpPr>
        <p:spPr>
          <a:xfrm>
            <a:off x="8748720" y="0"/>
            <a:ext cx="3952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Rechte verbindingslijn met pijl 5"/>
          <p:cNvCxnSpPr/>
          <p:nvPr/>
        </p:nvCxnSpPr>
        <p:spPr>
          <a:xfrm flipV="1">
            <a:off x="6372360" y="431280"/>
            <a:ext cx="2521440" cy="3790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i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5520" y="1025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Firefox web browser (version 17 or higher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f necessary, download Firefox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ozilla.org/en-US/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website: www.zoter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referably) Zotero for Fire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lick on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Inst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nstallation, restart Firefo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195384"/>
          <p:cNvPicPr/>
          <p:nvPr/>
        </p:nvPicPr>
        <p:blipFill>
          <a:blip r:embed="rId1"/>
          <a:stretch/>
        </p:blipFill>
        <p:spPr>
          <a:xfrm>
            <a:off x="6948360" y="189000"/>
            <a:ext cx="1241640" cy="1268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j0292020"/>
          <p:cNvPicPr/>
          <p:nvPr/>
        </p:nvPicPr>
        <p:blipFill>
          <a:blip r:embed="rId2"/>
          <a:stretch/>
        </p:blipFill>
        <p:spPr>
          <a:xfrm>
            <a:off x="1116000" y="189000"/>
            <a:ext cx="1440000" cy="136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1692360" y="4724280"/>
            <a:ext cx="3456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3:31:02Z</dcterms:created>
  <dc:creator>IngeborgN</dc:creator>
  <dc:description/>
  <dc:language>en-US</dc:language>
  <cp:lastModifiedBy>Lenny</cp:lastModifiedBy>
  <dcterms:modified xsi:type="dcterms:W3CDTF">2017-02-11T03:05:18Z</dcterms:modified>
  <cp:revision>230</cp:revision>
  <dc:subject/>
  <dc:title>Zotero</dc:title>
</cp:coreProperties>
</file>